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4BAD-378D-483B-8D61-718928184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2EA0-E237-4BC4-93D5-D639A83A5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795F-2C5C-49A3-ACA6-674DA94DC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2A60-D78C-49D0-B864-E12A0713F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15D2-E94F-4921-8B72-2068319CF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AEC2-3608-4351-81AD-937ECE1B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D171-7DB8-49D5-B0BE-06616505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E0EB-0ECF-4889-8EF5-0972E87E1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2270-F24F-4706-997F-336E83BCC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EFB6-40C3-49ED-A2C0-D4BC85C29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96E8-ACDB-4C97-BE56-93D9BA40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80EF-D18E-4818-81E9-6088AD62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21DC8F-E91D-49E1-9964-63DBA510FE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5CDE05-33F8-43BE-BEAC-31D982FE85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36"/>
          <p:cNvSpPr/>
          <p:nvPr/>
        </p:nvSpPr>
        <p:spPr>
          <a:xfrm>
            <a:off x="4579920" y="725400"/>
            <a:ext cx="0" cy="346248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traight Connector 37"/>
          <p:cNvSpPr/>
          <p:nvPr/>
        </p:nvSpPr>
        <p:spPr>
          <a:xfrm flipV="1">
            <a:off x="1567800" y="4187880"/>
            <a:ext cx="3011400" cy="17301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traight Connector 38"/>
          <p:cNvSpPr/>
          <p:nvPr/>
        </p:nvSpPr>
        <p:spPr>
          <a:xfrm flipH="1" flipV="1">
            <a:off x="4579920" y="4187880"/>
            <a:ext cx="3013200" cy="173016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39"/>
          <p:cNvSpPr/>
          <p:nvPr/>
        </p:nvSpPr>
        <p:spPr>
          <a:xfrm>
            <a:off x="3386160" y="158760"/>
            <a:ext cx="2378160" cy="45972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tuation/Con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40"/>
          <p:cNvSpPr/>
          <p:nvPr/>
        </p:nvSpPr>
        <p:spPr>
          <a:xfrm>
            <a:off x="348120" y="6004080"/>
            <a:ext cx="3362760" cy="45972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cept/Physics Princip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41"/>
          <p:cNvSpPr/>
          <p:nvPr/>
        </p:nvSpPr>
        <p:spPr>
          <a:xfrm>
            <a:off x="7638840" y="19080"/>
            <a:ext cx="150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veloped b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troj Beth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e O’Nei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am Y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42"/>
          <p:cNvSpPr/>
          <p:nvPr/>
        </p:nvSpPr>
        <p:spPr>
          <a:xfrm>
            <a:off x="7155720" y="6004080"/>
            <a:ext cx="1207800" cy="45972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mu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7-Point Star 43"/>
          <p:cNvSpPr/>
          <p:nvPr/>
        </p:nvSpPr>
        <p:spPr>
          <a:xfrm>
            <a:off x="3865680" y="3497400"/>
            <a:ext cx="1430280" cy="143028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Calibri"/>
              </a:rPr>
              <a:t>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47"/>
          <p:cNvCxnSpPr/>
          <p:nvPr/>
        </p:nvCxnSpPr>
        <p:spPr>
          <a:xfrm flipV="1">
            <a:off x="1567440" y="725040"/>
            <a:ext cx="3012120" cy="5193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50" name="Straight Arrow Connector 49"/>
          <p:cNvCxnSpPr/>
          <p:nvPr/>
        </p:nvCxnSpPr>
        <p:spPr>
          <a:xfrm flipH="1">
            <a:off x="1567800" y="5917680"/>
            <a:ext cx="6025320" cy="10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headEnd len="med" type="arrow" w="med"/>
            <a:tailEnd len="med" type="arrow" w="med"/>
          </a:ln>
        </p:spPr>
      </p:cxnSp>
      <p:sp>
        <p:nvSpPr>
          <p:cNvPr id="51" name="7-Point Star 44"/>
          <p:cNvSpPr/>
          <p:nvPr/>
        </p:nvSpPr>
        <p:spPr>
          <a:xfrm>
            <a:off x="2579760" y="2649600"/>
            <a:ext cx="1079280" cy="108108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7-Point Star 46"/>
          <p:cNvSpPr/>
          <p:nvPr/>
        </p:nvSpPr>
        <p:spPr>
          <a:xfrm>
            <a:off x="4040280" y="5378400"/>
            <a:ext cx="1081080" cy="107964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Straight Arrow Connector 48"/>
          <p:cNvCxnSpPr/>
          <p:nvPr/>
        </p:nvCxnSpPr>
        <p:spPr>
          <a:xfrm flipH="1" flipV="1">
            <a:off x="4579200" y="725040"/>
            <a:ext cx="3012120" cy="51933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headEnd len="med" type="arrow" w="med"/>
            <a:tailEnd len="med" type="arrow" w="med"/>
          </a:ln>
        </p:spPr>
      </p:cxnSp>
      <p:sp>
        <p:nvSpPr>
          <p:cNvPr id="54" name="7-Point Star 45"/>
          <p:cNvSpPr/>
          <p:nvPr/>
        </p:nvSpPr>
        <p:spPr>
          <a:xfrm>
            <a:off x="5500800" y="2649600"/>
            <a:ext cx="1081080" cy="108108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Calibri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50"/>
          <p:cNvSpPr/>
          <p:nvPr/>
        </p:nvSpPr>
        <p:spPr>
          <a:xfrm>
            <a:off x="0" y="725400"/>
            <a:ext cx="386568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Answering Physics ques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any two corners - Mer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11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three corners - Excellenc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20:13:39Z</dcterms:created>
  <dc:creator>t.devere</dc:creator>
  <dc:description/>
  <dc:language>en-US</dc:language>
  <cp:lastModifiedBy>t.devere</cp:lastModifiedBy>
  <dcterms:modified xsi:type="dcterms:W3CDTF">2011-10-31T20:40:11Z</dcterms:modified>
  <cp:revision>2</cp:revision>
  <dc:subject/>
  <dc:title>Slide 1</dc:title>
</cp:coreProperties>
</file>